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3B8-8F92-45C8-825C-9D8D4F4F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18D-A670-497D-97DD-EA0040F3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D41-713E-406C-B998-226EAB5C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B4E-BEDC-474F-9698-B2A5E6DA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845-5819-4765-A725-EEA2136B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E94F-D111-4A61-BB10-43DC64CE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74BA-8EC7-47E6-B6C0-8B1D0650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8B3-70CB-4682-860D-037D4535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4EE-479B-49BA-AE4D-762674B4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65D-982A-4387-A4F1-D993356D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FFF-3778-42A7-82BC-445C89C5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96C-FE0B-4F7B-B81E-4A60F376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D401-458E-4CAF-B82F-1B443771E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32000" y="271440"/>
            <a:ext cx="6276960" cy="623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708280" y="1612800"/>
          <a:ext cx="3586320" cy="347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8280" y="1612800"/>
                    <a:ext cx="358632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 flipH="1">
            <a:off x="4743360" y="865080"/>
            <a:ext cx="3672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41880" y="903240"/>
            <a:ext cx="20160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943520" y="930240"/>
            <a:ext cx="263520" cy="9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86160" y="879480"/>
            <a:ext cx="541080" cy="10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406840" y="892080"/>
            <a:ext cx="77940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619240" y="798480"/>
            <a:ext cx="1282680" cy="10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149880" y="1273320"/>
            <a:ext cx="107784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097680" y="1754280"/>
            <a:ext cx="1185840" cy="83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073560" y="2244600"/>
            <a:ext cx="106668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82920" y="2674800"/>
            <a:ext cx="101916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130440" y="3143160"/>
            <a:ext cx="878040" cy="1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6167160" y="3500280"/>
            <a:ext cx="88740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154200" y="3757680"/>
            <a:ext cx="8528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6121080" y="3966840"/>
            <a:ext cx="934920" cy="58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107040" y="4163760"/>
            <a:ext cx="87624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6073560" y="4408200"/>
            <a:ext cx="912600" cy="10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606640" y="4901760"/>
            <a:ext cx="117468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394240" y="4898520"/>
            <a:ext cx="80496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173560" y="4925880"/>
            <a:ext cx="51768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4941360" y="4913280"/>
            <a:ext cx="274680" cy="9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695480" y="4950000"/>
            <a:ext cx="14292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08480" y="4951080"/>
            <a:ext cx="157320" cy="10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95840" y="4960440"/>
            <a:ext cx="431640" cy="87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368520" y="4950000"/>
            <a:ext cx="633600" cy="89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89360" y="4962600"/>
            <a:ext cx="89676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30280" y="4938840"/>
            <a:ext cx="118620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60640" y="917640"/>
            <a:ext cx="393840" cy="9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79680" y="884160"/>
            <a:ext cx="681120" cy="97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09880" y="798480"/>
            <a:ext cx="851040" cy="10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41720" y="811080"/>
            <a:ext cx="1269720" cy="10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32120" y="1262160"/>
            <a:ext cx="1066680" cy="10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22480" y="1763640"/>
            <a:ext cx="99360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70000" y="2171880"/>
            <a:ext cx="935280" cy="70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62080" y="2735280"/>
            <a:ext cx="99396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93760" y="3119400"/>
            <a:ext cx="93528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075040" y="3500280"/>
            <a:ext cx="95868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087640" y="3755520"/>
            <a:ext cx="96984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097000" y="3979440"/>
            <a:ext cx="93528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050920" y="4249440"/>
            <a:ext cx="947880" cy="78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085840" y="4457880"/>
            <a:ext cx="97020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6600" y="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54320" y="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9920" y="6553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81280" y="6553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6340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2528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8752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09040" y="2318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168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244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5356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81200" y="28116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3560" y="6340320"/>
            <a:ext cx="6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t.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22800" y="6340320"/>
            <a:ext cx="5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93480" y="10666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93480" y="156672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4200" y="204300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42080" y="2454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93480" y="294156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92760" y="34290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92760" y="39164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92760" y="437184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-R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92400" y="48402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-L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92400" y="530208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-R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2400" y="581832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-L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8640" y="10447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9000" y="154476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9720" y="202104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7240" y="2432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8640" y="291924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8280" y="34066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8280" y="3894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8280" y="434988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-R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7920" y="48182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-L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7920" y="528012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-R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7560" y="579600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-L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0" y="0"/>
            <a:ext cx="12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2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5:04:31Z</dcterms:created>
  <dc:creator>cal2d</dc:creator>
  <dc:description/>
  <dc:language>en-US</dc:language>
  <cp:lastModifiedBy>Brandon</cp:lastModifiedBy>
  <dcterms:modified xsi:type="dcterms:W3CDTF">2006-06-06T18:21:06Z</dcterms:modified>
  <cp:revision>18</cp:revision>
  <dc:subject/>
  <dc:title>PowerPoint Presentation</dc:title>
</cp:coreProperties>
</file>